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5E1-4524-4FA8-8A47-8B6462F3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782-CE15-4E61-8E45-DB17FF88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96810-2487-4AD0-AA37-C50C4AB9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6F4D7-DB33-4176-809D-1EB38564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A86F7-D7A1-4BCD-A872-2D75BACB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9DA68-9B2D-498E-BE35-E2A1FC5D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71EEC-9236-4D27-84A0-34DF9F9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8E8A8-0D5B-41EB-91BE-B6BC30C6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756CC-87F5-4EB5-99F7-032DCA0F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5469F-ED65-452C-AD25-8BC2F92B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DA022-ADE8-46CA-84B2-3D4F515D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85938-05F2-42FB-9DD6-B84C5946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862-CBC1-4663-99E1-1C4AC220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8063C-CEBD-4252-88DF-F2AFDFD6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B9F15-55DE-4448-A736-33234263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86CEB-0612-490B-9EC8-6B75A2EA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868CD-98F1-4C34-88E2-F0059C53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5F3EF-F74B-4217-A7D0-23FB377E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0E161-E501-4387-9657-43D4BFE7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B7089-4DDD-41A1-B94F-A16297FD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155CE-754C-4C64-9FC3-B9879E36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94A0D-30F6-4A70-9F4E-3552568A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28B5C-7637-401B-87B9-4B619EFC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5DB-405A-4F0F-B696-730C4CAC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8B379-119E-40BE-B80D-16BF894D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ED659-79FC-4F62-B2D7-38DA1AE6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244DD-EF60-4702-A157-C6A5E720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433F3-3E1B-4DD2-8CDB-A16197A9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F5E7C-7326-4CF5-A801-B7396659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B829D-B1AA-47B9-881F-05C2EA9C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1A11C-0866-4AC6-9656-10EFA513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4C0F8-6C65-4024-823A-2F5A980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8E31C-D4F8-4DF0-A0AE-DBA85C1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EEEE6-EE4B-4BFB-AF68-B9D20298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D4AA-0325-421F-9FFB-38329DBD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BA14D-B0A6-4CE4-B355-13F37AEB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C315A-0E0F-4E03-A01E-CA657424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3D36F-C970-4C7E-8572-59A9C317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5DF32-A20B-4660-91F6-8BA8B34C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81699-3A7D-4FF5-9B9C-18F5166A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363B7-5B4A-4EF0-B154-275F1594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9FF0B-5739-402C-97BB-5FA385CA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549E1-2823-4D21-B734-81A5CF22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253BA-6A89-42FB-AF02-E658E3AE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E196A-3B76-4B63-A91C-B32777D6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F95D-5453-432D-9EC6-C72F6C63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C3C39-C060-4C77-B511-55E4ECFF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ED62A-DBB8-4BC6-AAAF-8291C8FF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4FE55-719C-4CE1-9334-21137C3D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5EDDA-6081-4DAA-81CC-081BDD2D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F993A-0422-4333-96D7-A973680F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99FB4-184B-4C42-B172-602E8597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A4F7E-A38F-407A-92DE-0A62E3B8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F05DC-4269-4F29-90F8-CD18B93A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61AA7-46E8-40A7-BB77-94A9B983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E92E3-F2D0-467A-9B7A-D406E323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B7DA-08B5-4FF4-8E14-3A20AB02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54DB4-F6F6-4F4B-BD95-F0C120EC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94512-9EB3-44F1-9DCC-3929D1E2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D615E-90F1-4328-BD8A-EBD8B230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A2E81-8F46-439E-8450-D762AC47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D1466-3744-4B4A-829F-7D2AF8A3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BE307-4A5A-489C-B56F-3E104881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9FB7D-A7DC-47BF-9EFD-EA9C2B68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0039F-3613-4828-9E2A-DA2AD4EF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E9233-C703-4BE4-9F90-7A483119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31011-9A7A-4562-B402-53035307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A8AC-90D9-49F8-ACDB-C0B6CBF5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5C890-0CC0-4FDB-AC69-25B011B9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21DDC-9D42-4D97-A156-2AA7483F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423D4-9CA2-483E-A5F8-97CE9FA9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34ADB-A1CC-4399-9E4A-902D4E8F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6D207-48A8-4CB7-BA2E-3D76992A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33C35-B574-4AC7-8EBF-4273A9D8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0B65B-7DAD-47FA-9F53-03AF8ABE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A55B5-B79D-4D2A-AF9D-BD4FDF9C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1D4D9-B39F-4077-A498-44305539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EFBB3-6534-4421-A63C-D74852A1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45D8-A501-46D7-83C5-9FA06492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7CD0A-7B5F-4F90-BAC8-45E5C8DB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983B9-B8A9-4502-8CE1-C154AA58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69BAF-6CF6-4D92-9C77-BCFBFD13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6080C-8F04-4FC1-9A37-46235FA8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EF7A24-E07F-4C23-B420-BE8CEF57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1175A-9D0A-4949-8A83-21F26D7A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2F942-04FA-4DBE-93F7-F9741C78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1775A-72A9-479F-A7A6-9632DD09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7CB2A-778E-49CE-9A8D-2AB5A56A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6C691-AD4D-4830-B630-8E210D26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4147-C892-4955-920D-D0C7EF31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5B69D8-7A6D-4184-BA77-992033F2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5A74D-B78C-4F57-B205-AD0007E5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D38ED-33A4-4B64-9300-678797CD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78193-036C-4C43-8751-C2A095FC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93A90-DE41-4EC0-847E-F50E641F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6C79D-D885-45DA-87D1-4E0FF656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444C0-E68D-45B7-B36E-732291BE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BA295-C29A-4C03-8816-A9CAF42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14056-50E3-42CF-B0EE-57A4DB85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5B509F-FCF4-417D-9E03-DAAC6E70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B5C6-1AFE-467E-B8CF-E37EB90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B64CF-3610-46AC-B23C-31617368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CA8FA-B44C-43C2-9DA2-E80229F3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4B5A69-CB72-4371-9B50-A45BC5AA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6FD5B-05B1-4752-9035-BA9FA92B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A9348-BE8F-40B8-B807-E8793B7F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53D50-9141-4C25-AD0B-DDC55233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7508E-812F-4ABC-98B1-9F2A788F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4F3FF-70CF-417E-AF0D-7CB1C680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3716EF-C7DD-4E37-BD9A-B525AF49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157EE-3A08-4373-A011-4C0638E2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683-ABFF-4DA3-BA58-2DFF180C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A1BF-B43B-4176-9360-F5BE6448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4E9D7-EBCD-452C-8C9B-C65C379C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35029-CF5E-4BAA-919A-33AE23EE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6CAD05-9905-4BCF-A4B0-4DB809EC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505A5-6975-4897-9B0D-57768262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A2920-F531-4B3C-831B-5D185E1B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38B6CE-8C01-4CD3-B037-5E5CBD61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46368A-2C68-4986-80DA-224D9257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02211-E634-44A6-9B41-2B38680B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790F1-50C1-4995-802E-FFB1FA73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31D04-3A4F-4327-BEF4-017EE53A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4C70-F2A0-4789-A1FF-3DDB4D4B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E285C-34C0-474B-9863-FFD7A7FB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6B0474-CAC8-4501-A07B-82821E3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C8E98-82A5-43EE-BC7A-D0AFDE53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0B0122-63D0-4776-89E4-B77275C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4EB31-8F33-42C5-A3CD-14D80985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3465F-0B75-4D65-B29C-B936C3E1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D2C5F8-6696-4D6E-B36A-3AAEDFD7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F207A4-4108-4A3F-A75B-91929ECC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F71A60-29FD-4641-909E-670ADA3A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79092-D669-46E8-A379-5A955DE3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8D22-DBA0-45CA-BAE3-93321DD3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4269A-31AF-4262-A184-C18B9A90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271D4-4AC6-4995-BF1C-840AB21A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C2F62-41AB-4A5F-8D1A-09EE4E6D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70CF93-7340-4EF1-9C62-D196CA39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ED4CCB-89B0-4E73-9770-E895F30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444266-2840-4E55-A85D-B0DBE57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0E18CB-F257-41FA-9035-473476D1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781089-1BEA-49B6-87CB-4DF99933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0988B4-4B07-482B-B967-EDA8E4DB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4BA05-34FC-4CFD-9B15-6AFDEFB0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6F2E-F516-498D-871E-B6CDB4D9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9A6E1-2965-4F37-A2DD-124EE528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FDE1E-84CE-49B7-A785-4E92F795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78C62-B052-4B36-A47D-F6BBEDB1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EFEEB0-7A77-4096-A26F-FDA20918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A3D3CC-CAC7-4091-9590-D06390FB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A02699-9BFD-4D91-8CCD-B710EFD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D7F92-2D42-4651-AB10-4D97741C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84FFCD-AA3D-4D70-AAD4-5AFBD7C8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48B39A-1ABA-4A7B-A5FE-DD492A46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FD35E8-F753-4C12-A07B-44676057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B9D3-5CDB-487D-85F1-FC65BC47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500058-6661-40D0-9671-D9D7E041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C072A-2E06-4D10-86A6-E290ADAA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61437A-A18D-47F3-AC93-4642A9C0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C1C64A-A86B-4230-B3A1-4368BA90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A55AEA-73F5-48AC-A1ED-4D39E6DF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C25743-9133-480B-BD16-E61D31C5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29A72-91C1-4522-AB29-EA149600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BAEA4-C5A8-4C0B-8B75-F0DD12E9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FAD5D-E104-40CA-9A39-93427161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FB0785-BA92-4497-BB01-541DE963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BADC-AD2D-464D-A77F-F8D224DE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94EF9-AC67-4B70-9B7E-9F24CF80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48E54-95D2-4D7E-B283-40466EB7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A919EA-666A-4784-9FC7-8DA37CC6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85337B-6703-43D5-8E20-FD26D157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0E1E6D-6CB5-4476-8ED9-A355DDB3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C81378-B5ED-45AD-8417-98627519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307D60-7CFA-49AF-A711-C2443D6E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784615-DEB7-415D-8F27-59FBAADD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06B183-7E48-4E86-903F-389CC2CB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60CFDA-59CB-463C-B7AD-0D251926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15E5-03F6-4DC8-86B3-9B90D9F5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8214B1-2C0C-49ED-A884-B166D31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A7E575-21D8-4549-BE14-5161A76A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D2014-5FC8-4EDF-AFFB-A09E28D4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C78390-6967-4EBC-938B-3CB31D17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BFBF27-0736-4C75-A6D7-B440D5C3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CC2A55-87DA-4419-951D-5E017FD7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A06257-654C-4D44-8674-41C80C11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B65919-3B69-40EA-BF46-4FF590A7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C21B1B-B6FE-4C9C-A831-1B163F75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909222-A056-4110-9D5E-CE7F80F6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B30C4-4A26-41CD-9E71-FE9101B1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795F18-9B7B-42A3-BC99-0B9E289F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3AB0CB-F59C-40ED-A501-A98CC6C1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CFE595-03AE-4037-8FA3-8979D8E2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7581DB-7501-405F-B9EB-6C1F5800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8EB459-6808-410E-A425-63A0830D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7099FA-8F8F-4108-9200-7C5DA728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5077F1-4C0C-4B63-8AE8-9090DF13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1092-0375-43BD-AA4F-6F1337BC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3551-330A-4F6F-9A52-A862CE24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18F-C05F-4964-A607-AC33AC09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01D6-2A37-4186-9B69-D622FBED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5BA3-B89D-4B0D-AFCE-6CFBD925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8DC2-52DF-4392-833F-529D019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5770-636A-4C8F-A5C7-C201C70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55EB-D5E5-4344-9D18-466132A6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3A3F-29FF-4742-841E-96D5BB82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0BCA-49E6-4A89-B170-DA45C97E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2AFDE-F668-4B10-A52D-19AA73E7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131DC-9382-4AEF-B95B-01971BCF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4FDA1-47F1-4B28-8041-B181518A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8E1-BBA4-41F6-8DDD-AAA16ECF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9FBD0-09E4-40B7-BA6F-00A2237B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3917-C63A-4FC1-9855-AA6CE0C3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4A88-0CFC-4F4E-9CF7-E891B85C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9BB3-D13C-462E-88B4-5B44702C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5309-0334-4DE2-8F8B-79F475EF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4063-9498-4CEA-9C4B-9320CD32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BE6AC-6DC4-4A14-9624-5511A905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9D72-5CD4-43D1-8EA9-E927870C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78FDA-2534-4A4D-96EA-C9EE24EA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85C88-AA90-4A9A-A9AC-671FEA8C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12D-5B57-40D5-AD38-16E16B82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025F6-BD55-493B-8FAD-683AD4C2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5482F-2DCF-4BE3-B500-6734B4B9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6CB4C-532A-459D-A834-7157758B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42A9E-7FD1-48D5-A98C-71A20180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2BCEF-7178-4E69-A754-CF080505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94239-FE7D-43A3-8B78-3DECAE02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A6FAB-5806-49BA-A448-6D7765DB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A8D43-5D96-4888-9D3D-9C2354A9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A3802-65F3-47D6-890B-F7BEDED7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4F099-290B-4F91-970E-701A746D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13A-44DB-4051-8195-E0FC31F1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D1B1-3BFC-47A4-8EB8-C0170D0A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E35BA-B19A-4D06-9AE8-F22AA8EB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0128C-CF95-4198-A378-24B774CE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997B8-882B-42FE-BE5B-6F0BD28E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DC290-2798-438E-BEA9-A3E313D8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5DBD7-10C9-46AB-A9C0-36FA1B3D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38C5-4770-4615-8540-74457D5A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9B78E-D94F-45A7-9C91-AC1F8E64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D24BC-F25D-4A18-AC0F-E8091F59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060A-2B0A-441E-9DEC-8C54FB37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804-5322-4F03-A567-A649B1A8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AA24B-0AC9-4027-84C0-271482E0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F4FA9-03E4-4990-8D37-F55C9939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4F4F3-A022-4B99-AB24-F9111E4F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B62F3-8757-45F9-8F0B-8D326E5E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7DFF0-57C8-4155-8F7E-A8C2C04C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FD332-7A8F-4BF9-A84B-24D4D2CF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24849-547B-417C-AD98-C1F6F03B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32CBF-117D-486D-A68D-FA1D5227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A1747-399B-4A92-AAB7-823D7C79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F0E7B-B3AA-4E16-9F98-277BC909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AE6-F9B1-4C45-A2CD-B32B29BC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FD438-CB49-436F-A589-8A5C54E7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CE9E8-49CE-4B20-A2F8-989D42E1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4C385-2ED7-4636-910E-1F566B5D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3D2D7-37F6-4C42-AC30-429606EB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FB462-4C70-4A76-99DB-61EDA731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02254-47AF-4539-A293-41660F06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11473-FAA1-42DC-9810-A1052017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A5F3A-62BD-4805-B0A7-27626D34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DBD79-4C50-474F-B95E-A38ED7DA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83F84-A691-461B-9E57-A408634C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23A-FF79-4E59-86AC-F67B9106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C9A26-1B41-403D-AF9F-9DE56754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22E12-7EA0-4A74-9111-311FAB61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E1129-1FF4-4DF8-B850-05797A05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9CD4C-0E1C-45CA-8338-9C3E5D36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A1A1D-D584-412B-B6C0-45EB3AC1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A7DDF-3DB3-4222-B017-A8C3DB2F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EB863-5633-4D85-99B7-F855A863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075ED-1194-4E37-AF82-93A4ABA3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1A81F-933A-4906-B532-8B350245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80735-7885-44E0-B2FC-A9FCDBC5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2F30-5368-4413-8DB3-039D329D66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50AE-E245-4356-AA1D-6D42F0F070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E619-7BED-4E8F-9EE8-1B39F51027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B379-C5C5-4298-A85C-A0E5491E3E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01E5-1649-4F65-A84B-C080EBBB0B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CF80-37DA-42ED-BEC6-85FD45D3FC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41D5-BE9B-41B8-BC0D-4949BD13D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2302-91FD-4453-A3D2-7E22F2DA75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8B10-02FA-4106-8D49-DED9FE37B5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1E88-10A4-444B-835D-E37B70EA61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08DA-2354-4035-B72E-7C6405D65B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5363-FC18-463B-949F-A1D3679B1F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D4E5-79FC-4BE2-958F-6A1102F49C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A8BA-598A-4763-AD4F-555C8DAC90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285-A0BD-42C6-A819-C5C64F1EF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D4A0-D54E-41DD-8A6B-27FA8A2A9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CDA6-FD86-4B54-AC9D-E1E18BC116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3C03-341F-43E3-8EAC-0417252A61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5E7B-1656-4698-8156-B48B6CBA1C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C028-0FBA-4BF1-B138-15863CCCB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377F-81C1-4AFF-A9BC-772568CCB5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EF77-C1B9-4FE5-94AF-DE8CB39CDE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7CC7-1E8F-4A50-9736-EE47B3B332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7A3F-1F79-4C1C-938E-E4AE5BD47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0085-7DEC-44B7-AC05-18EA0037C9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ACC6-5444-4515-8C19-1287EC25FE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5EC7-13A4-4E80-962A-683C533DD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D154-28AE-4CA4-B169-CA99F9FE47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E7E5-0C46-4E0A-AABE-4564728505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3002-6295-4D3F-A28C-D9DE066214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5BC8-9413-48A9-B24B-FCEB5ACBBE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08E1-08D9-43FD-BE38-E3C6C922F3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7487-F749-4993-91B6-46C7AE6E44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8BAB-AE89-40ED-9C0F-764D9F885D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00B5-3C0C-4042-97AF-4181924273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D5BD-4CEF-4246-A8D7-FE66CEC3E3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36AF-111F-4AF1-8247-21A21F040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5795-1579-4910-BB1D-F9D680877B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7A6E-235A-461A-8BA1-83E07AAA47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0253-396A-4F24-BFD8-0C6BCCA491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09F8-5760-4907-9C21-2B023E50C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51D7-C812-4D9D-B7BD-E734868A8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790640" y="3052800"/>
            <a:ext cx="5562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11240" y="754200"/>
            <a:ext cx="8923320" cy="5819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24000" y="4581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24000" y="540216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260280" y="1312920"/>
            <a:ext cx="7885080" cy="131436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2" descr=""/>
          <p:cNvPicPr/>
          <p:nvPr/>
        </p:nvPicPr>
        <p:blipFill>
          <a:blip r:embed="rId2"/>
          <a:stretch/>
        </p:blipFill>
        <p:spPr>
          <a:xfrm>
            <a:off x="1359000" y="2962440"/>
            <a:ext cx="7353360" cy="20952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1763640" y="2987640"/>
            <a:ext cx="194472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4932360" y="3419640"/>
            <a:ext cx="144000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2268360" y="3841920"/>
            <a:ext cx="194328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6"/>
          <a:stretch/>
        </p:blipFill>
        <p:spPr>
          <a:xfrm>
            <a:off x="2987640" y="4264200"/>
            <a:ext cx="1440000" cy="2901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7"/>
          <a:stretch/>
        </p:blipFill>
        <p:spPr>
          <a:xfrm>
            <a:off x="2411280" y="4691160"/>
            <a:ext cx="1152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376200" y="2195640"/>
            <a:ext cx="8389800" cy="24667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1692360" y="2589120"/>
            <a:ext cx="93492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3995640" y="3016080"/>
            <a:ext cx="165600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3635280" y="342900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2627280" y="387036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1476360" y="4292640"/>
            <a:ext cx="12240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76320" y="1071720"/>
            <a:ext cx="8991360" cy="47145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1908000" y="1906560"/>
            <a:ext cx="93528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3995640" y="1916280"/>
            <a:ext cx="201636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2627280" y="2771640"/>
            <a:ext cx="201600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1619280" y="362268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3564000" y="362124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7"/>
          <a:stretch/>
        </p:blipFill>
        <p:spPr>
          <a:xfrm>
            <a:off x="5651640" y="3611520"/>
            <a:ext cx="79200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8"/>
          <a:stretch/>
        </p:blipFill>
        <p:spPr>
          <a:xfrm>
            <a:off x="582480" y="4470480"/>
            <a:ext cx="57636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9"/>
          <a:stretch/>
        </p:blipFill>
        <p:spPr>
          <a:xfrm>
            <a:off x="1979640" y="4479840"/>
            <a:ext cx="57636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10"/>
          <a:stretch/>
        </p:blipFill>
        <p:spPr>
          <a:xfrm>
            <a:off x="1619280" y="5310360"/>
            <a:ext cx="2736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1:3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